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C883-C1DD-48D8-8842-0C9E1F0FA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D99C-FC02-4C4E-BF98-FF5DC445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7302-8BFF-4543-B58F-A231B0FA9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D2D9-563A-46DE-BD2C-D0AEC280F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C76D3B-C5CF-4A29-B064-0069BA170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A4786F-73A1-432A-B89B-456823D4D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384F00-C73E-4DCC-ADA3-9844348B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A4AAA9-9A41-44A2-9064-D563F87CC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FEF32E-F812-492A-8A03-10B3B5E4A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6C9C87-726D-43E6-9AFE-4225C68F6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C4DE91-1CF1-41B8-9BD1-CC7D0276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D117-5EB8-4CC0-8AA9-28CF1C8EB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0564C1-CD7F-4876-A38B-C90BE8C6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5BB996-64BA-4874-8CAE-76125A6C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7E316B-16DE-4F17-B92F-4CCFD5728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044626-3432-46E7-A36B-7E6B58EF2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DF6282-72F4-41BF-84A9-A20081617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565E-D8EB-4A17-8488-3FB4DE6E7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5A5D-6A39-4876-85B6-786AF190F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AD9B-E1CB-4206-B32C-44A5AE6AD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291F-3C7D-44DB-B0D8-32F13378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E37F-F626-4929-89C0-E687A3F2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CD40-0E60-4FC1-BCD9-46F7F0D1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0E56-8010-45FE-BB71-70DE123D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65938-A5A6-458E-9B9F-C2C4842E6B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048AE-209C-4820-B6E8-B7B35425E6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 Mansi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Tahoma"/>
              </a:rPr>
              <a:t>ó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r: Beverly Br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 Garaje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un garaje. Es muy grande y estupen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648320" y="2435400"/>
            <a:ext cx="403848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 Comedo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un comedor. Es muy bonito y modern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648320" y="2617920"/>
            <a:ext cx="40384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 Mansi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Tahoma"/>
              </a:rPr>
              <a:t>ó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una mans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ó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. Es muy grande y bell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572000" y="2514600"/>
            <a:ext cx="40402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 Cocin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una cocina. Es, bonita y modern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48320" y="2610000"/>
            <a:ext cx="40384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 Sal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una sala. La sala es muy fabulosa y antigu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838760" y="2660760"/>
            <a:ext cx="400032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 Ba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Tahoma"/>
              </a:rPr>
              <a:t>ñ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un b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ño. Es muy nuevo y grand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267080" y="2514600"/>
            <a:ext cx="464832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 Cuart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un cuarto. Es muy impresionante y c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ó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648320" y="2514600"/>
            <a:ext cx="403848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 Jardin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un jardin. Es muy magnifico y boni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648320" y="244800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 Patio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un patio. Es muy lujoso y bell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648320" y="2374920"/>
            <a:ext cx="403848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1T13:09:24Z</dcterms:created>
  <dc:creator>brionbev</dc:creator>
  <dc:description/>
  <dc:language>en-US</dc:language>
  <cp:lastModifiedBy>brionbev</cp:lastModifiedBy>
  <dcterms:modified xsi:type="dcterms:W3CDTF">2013-04-03T17:54:11Z</dcterms:modified>
  <cp:revision>9</cp:revision>
  <dc:subject/>
  <dc:title>La Casa</dc:title>
</cp:coreProperties>
</file>